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A3D5-780F-47EF-A795-984599885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ndard way to simplify mathematical expressions and eq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 standard way to simplify mathematical expressions and equations.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s Con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Consis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voids Confusion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ives Consistenc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 are a set of r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thematicians have agreed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o avoid mass CONFU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implifying mathematical express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equations. Without these simple, b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rules, learning mathematics wou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madd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 are a set of rule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hat mathematicians have agreed to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llow to avoid mass CONFUSION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when simplifying mathematical expression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equations. Without these simple, but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important rules, learning mathematics would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be maddening.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within Grouping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), { }, [ ], |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Expo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se to P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he Rul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implify within Grouping Symbol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( ), { }, [ ], | |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implify Exponent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Raise to Power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Complete Multiplication and Division from Left to Righ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Complete Addition and Subtraction from Left to Righ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to Ou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der of operations, we do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first.  So what’s 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Back to Our Exampl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Using order of operations, we do the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ultiplication first.  So what’s ou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nswer?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hes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How can we remember it?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arenthesi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lea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cu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ultiplica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Divis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Dea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ddi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un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ubtrac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all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points to remember that will give audience confidence or improve mor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Key points to remember that will give audience confidence or improve moral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32D8-0E24-4639-838C-000012B6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FDD-D239-455B-975C-174EC7BB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69AA-C214-4C9A-931B-F4411512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9262-E52A-4B15-B505-8EE08E9B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85BD-ADB9-4003-BD16-37F5C785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E34D-FF34-4067-8E75-D4E76A18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0D89-0935-4C06-8D0F-6A7168B5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3738-1904-48A4-999C-C45B1624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A9F2-65E9-4571-BCD6-B6A2DB99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5312-75D8-40A9-B704-C84B4CF3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A8E2-31BA-4A69-988D-0C0E98CA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D11-CD09-4575-B3EE-D8A77EA9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F87D-AC1C-4E48-8D87-B411FBF7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3CED-9743-461D-BBA3-01B63762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C128-4573-44D7-9027-16DDDF33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F327-DD7B-4129-A11C-DD3E1454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7B2D-5B37-4732-B839-D8DB63AB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F61-345D-4B69-B015-60459877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29A-4619-4C48-B497-BCB4A25C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B5E-89FA-47FF-B373-900E5B25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165-689D-41E1-8FA5-050237E2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53E-C86D-4236-928F-77DD75AF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8A3E-0C67-463E-9C28-8C1C6175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E11C-46CD-403C-B8CB-59BA9508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83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6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8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9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0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1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2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3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4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5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6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7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8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19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0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1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2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3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4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5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6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7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8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29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0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1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2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3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4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5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6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7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8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39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0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1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2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3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4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5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6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7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8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49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0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1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69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0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1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2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3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4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5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6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C5F5-6F8D-4109-A4F8-9B863AEAA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83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4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6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7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8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9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0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1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2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3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4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5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6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7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8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19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0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1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2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3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4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0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1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2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3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4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5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6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8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39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0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1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2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3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4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5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6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7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8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49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67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0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1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2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3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4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5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6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7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58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59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0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1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2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3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4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5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6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8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69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0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1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2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3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4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461B-5483-47CF-894F-04102EB9C45C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Order of Operations</a:t>
            </a: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r. Clutter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VMS Librar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66"/>
                </a:solidFill>
                <a:latin typeface="Times New Roman"/>
              </a:rPr>
              <a:t>Order of Operations</a:t>
            </a:r>
            <a:endParaRPr b="0" lang="en-US" sz="66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562120" y="22860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99"/>
                </a:solidFill>
                <a:latin typeface="Arial Narrow"/>
              </a:rPr>
              <a:t>A standard way to simplify mathematical expressions and equations.</a:t>
            </a:r>
            <a:endParaRPr b="0" lang="en-US" sz="54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voids Confusion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Gives Consistenc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505680" y="3733920"/>
            <a:ext cx="329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11 * 4 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Or does it equal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8 + 12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Order of operations are a set of rules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that mathematicians have agreed to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follow to avoid mass CONFUSION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when simplifying mathematical expressions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or equations. Without these simple, but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important rules, learning mathematics would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be maddening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he Rule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mplify within Grouping Symbols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( ), { }, [ ], | |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mplify Exponents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Raise to Powers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omplete Multiplication and Division from Left to Righ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omplete Addition and Subtraction from Left to Righ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Back to Our Exampl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2362320" y="213372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11 * 4 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Or does it equal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8 + 12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420280" y="4613400"/>
            <a:ext cx="47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Using order of operations, we do the 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multiplication first.  So what’s our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answer?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2423880" y="5908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How can we remember it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Parenthesis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Pleas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Exponents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Excus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ultiplica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Divis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Dear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ddi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un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ubtrac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all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Key points to remember that will give audience confidence or improve moral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20:11:28Z</dcterms:created>
  <dc:creator>Mr. Clutter</dc:creator>
  <dc:description/>
  <dc:language>en-US</dc:language>
  <cp:lastModifiedBy>RomaK</cp:lastModifiedBy>
  <dcterms:modified xsi:type="dcterms:W3CDTF">2015-09-04T07:44:40Z</dcterms:modified>
  <cp:revision>6</cp:revision>
  <dc:subject/>
  <dc:title>Order of Operations</dc:title>
</cp:coreProperties>
</file>